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gif" ContentType="image/gif"/>
  <Override PartName="/ppt/media/image14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A05-D451-402B-AE5B-379A89E3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FA6-2DB3-4C2A-96F5-0D88FFA3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DD6-732B-4DBD-A12E-953ECF62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068-6D9A-41ED-8AF2-2D6BD6A9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100-7134-4F1B-8569-24B7A6C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6E9-FF0C-4644-A4FE-485A8C3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7F1-6A38-479B-9C23-BFA88EB6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2C3-4666-4D45-BD85-ABEF832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CAD-B12A-444C-80CF-BA1E71A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3E3-FA17-475F-9502-A9F25BF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89F-ABD4-4FB2-9C86-9E8B96C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C9B-A045-45BF-B5D9-8C33AAA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0AC8-9EE1-41AB-B774-6BC074D3C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5800"/>
            <a:ext cx="453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РО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63440" y="426708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А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627" t="17828" r="12991" b="8177"/>
          <a:stretch/>
        </p:blipFill>
        <p:spPr>
          <a:xfrm>
            <a:off x="4800600" y="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42670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2670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2560" y="22860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 – ТЕ - 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960" y="137160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Ь - 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240" y="259092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Ъ - 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0320" y="3657600"/>
            <a:ext cx="26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7720" y="4648320"/>
            <a:ext cx="20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0920" y="571500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С - 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2286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ТЕР -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14120" y="129528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 - 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760" y="251460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 - Ъ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63160" y="3657600"/>
            <a:ext cx="25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- 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2040" y="472428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 - 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77840" y="579132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 - 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5638680" y="57913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91320" y="4724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5715000" y="3657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562720" y="25909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5715000" y="1295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867280" y="228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5638680" y="5791320"/>
            <a:ext cx="243864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790960" y="464832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790960" y="3581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5562360" y="2514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4640" y="1295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5943240" y="228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990720" y="304920"/>
            <a:ext cx="70102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  </a:t>
            </a: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СПАСИБО 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ЗА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УРОК!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92" name="Picture 6" descr="C:\Documents and Settings\Администратор\Рабочий стол\аниме животные\animal145.gif"/>
          <p:cNvPicPr/>
          <p:nvPr/>
        </p:nvPicPr>
        <p:blipFill>
          <a:blip r:embed="rId2"/>
          <a:stretch/>
        </p:blipFill>
        <p:spPr>
          <a:xfrm>
            <a:off x="533520" y="25146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2881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2120"/>
            <a:ext cx="60958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ПЕРЕНОС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СЛОВ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8" name="Picture 6" descr="C:\Documents and Settings\Администратор\Рабочий стол\аниме люди\22л.gif"/>
          <p:cNvPicPr/>
          <p:nvPr/>
        </p:nvPicPr>
        <p:blipFill>
          <a:blip r:embed="rId1"/>
          <a:stretch/>
        </p:blipFill>
        <p:spPr>
          <a:xfrm>
            <a:off x="5334120" y="2286000"/>
            <a:ext cx="3504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21880" y="54288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 - ТЕ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7840" y="365760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ТЕ - 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38" t="0" r="83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332000" y="333360"/>
            <a:ext cx="7126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 - 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Администратор\Рабочий стол\аниме животные\kroiwn.gif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228600"/>
            <a:ext cx="75438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 - 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15240" y="468360"/>
            <a:ext cx="420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90800" y="4343400"/>
            <a:ext cx="514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85800" y="990720"/>
            <a:ext cx="7543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85800" y="990720"/>
            <a:ext cx="7620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 - 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1</cp:lastModifiedBy>
  <dcterms:modified xsi:type="dcterms:W3CDTF">2008-02-13T10:19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